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C723-BC48-4B81-93C7-9E9EF59E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612-9775-4C45-AA34-60A2A4BE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79BC-B004-4E0C-9106-DC682F2C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520-203B-4172-AE17-880CBF5D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45FF-1ACC-40FA-86DC-5543A3A0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C083-34A3-4E26-8947-F7238F02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2237-CA6D-48EA-8513-00E1A5AB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19E9-06F2-43EE-B6AD-A475F149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5119-4489-42F1-8D28-061871BB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CFAC-62E5-492F-B997-17C6F17A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649B-2577-412B-8C3F-49E32C65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F44-B282-448C-8509-217FF4B2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0BE2-7028-49C9-99FC-49ECB721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0231-8CB9-48AF-B17A-40B562F7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684D-7383-4C31-BBCC-F1F822F1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4C2C-E2D0-45EA-A3DD-4A34A32F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D992-9836-45BD-A9B7-D1C89882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1B3-5C54-40E1-874C-2DE942A5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EF29-842A-4859-BCAC-E895B6C1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6C8B-8651-435A-BE2A-B7953E18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78DC-B2A8-4185-94B7-C0BBD762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E0B-28CE-42D7-85AF-AF45B830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3C9-8920-4E8E-B3B2-187E4E1E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E28-685D-4EDC-BF16-FB337D8A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EEF0-C268-4D33-B0FE-779189351D8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BEE6-E42B-4BD4-9CFB-56AA03DB287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medf.kg.ac.yu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ултет 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ицинск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наук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 Крагујевцу</a:t>
            </a:r>
            <a:br>
              <a:rPr sz="2800"/>
            </a:b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СНОВНЕ СТРУКОВНЕ СТУДИЈЕ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олог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15000" y="5486400"/>
            <a:ext cx="3124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атедра за физиологиј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ВЕЖБА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1066680" y="1752120"/>
            <a:ext cx="76964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зиологија централног нервног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Испитивање клинички важних рефлекса код човека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il_fi" descr="STH515PBT11"/>
          <p:cNvPicPr/>
          <p:nvPr/>
        </p:nvPicPr>
        <p:blipFill>
          <a:blip r:embed="rId1"/>
          <a:stretch/>
        </p:blipFill>
        <p:spPr>
          <a:xfrm>
            <a:off x="2819520" y="3505320"/>
            <a:ext cx="2793960" cy="3352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514240" y="1371600"/>
            <a:ext cx="6326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хваљујући спорој адаптацији они могу непрекидно да преносе информацију више сати и зато се зову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оничким рецептори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даптираће се до гашењ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само уколико интензитет дражи која делује остане апсолутно константа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тек за неколико сати или да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85840" y="228240"/>
            <a:ext cx="243828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66"/>
                </a:solidFill>
                <a:latin typeface="Arial"/>
              </a:rPr>
              <a:t>Рефлек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57200" y="837720"/>
            <a:ext cx="6886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Већину активности ЦНС остварује кроз рефлексе. Основна јединица интегрисане нервне активности је 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рефлексни л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Рефлексни лук се састоји од: рецептора, аферентног неурона, централне синапсе, еферентног неурона, ефектор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Рефлекси могу би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1. Физиолошки (увек су симетрични – исте јачин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2. Патолош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одела рефлекса према броју синапс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 моносинаприч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 полисинаптич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одела рефлекса према локализацији рефлекс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 екстероцептив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 проприоцептив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 вегетатив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057400" y="837720"/>
            <a:ext cx="685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Екстероцептивни рефлекси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– драж делује на рецепторе у кожи или слузокож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Проприоцептивни рефлекси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– рецептори се налазе у самим ефекторим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мишићима (дубоки мишићни рефлекси, настају истезањем тетиве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Вегетативни рефлекси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– рецептори су смештени у унутрашњим органим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стваривање рефлекса захтева интегритет рефлексног лу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спитивање рефлекса има клинички значај!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19520" y="380520"/>
            <a:ext cx="6324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Екстероцептивни (површински) рефлек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66"/>
                </a:solidFill>
                <a:latin typeface="Arial"/>
              </a:rPr>
              <a:t>Кожни рефлекси – плантарни и трбушн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лантарн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– рефлексни лук –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n.tibialis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а рефлексним центрима у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L4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– S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Рефлекс </a:t>
            </a:r>
            <a:r>
              <a:rPr b="0" lang="sr-CS" sz="2000" spc="-1" strike="noStrike">
                <a:solidFill>
                  <a:srgbClr val="ffff66"/>
                </a:solidFill>
                <a:latin typeface="Arial"/>
              </a:rPr>
              <a:t>Бабинског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је патолошки рефлекс код деце старије од годину дана код којих је завршена мијелинизација и код одраслих особа. Изводи се превлачењем тупом иглом по плантарној страни стопала (од пете, латералном страном стопала према прстима и испод прстиј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Физиолошки одговор је плантарна флексија прстиј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атолошки одговор (Рефлекс Бабинског ) је дорзална флексија и лепезасто ширење прстиј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il_fi" descr="Babinski"/>
          <p:cNvPicPr/>
          <p:nvPr/>
        </p:nvPicPr>
        <p:blipFill>
          <a:blip r:embed="rId1"/>
          <a:stretch/>
        </p:blipFill>
        <p:spPr>
          <a:xfrm>
            <a:off x="0" y="1905120"/>
            <a:ext cx="32004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362320" y="23619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Епигастрички кожни рефлекс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е изазива превлачењем тупог предмета од доњег пола стернума (доње ивице ребарног лука) према пупку - долази до контракције горњих делова мишића предњег трбушног зида (увлачење трбуха) – не види се померање пупк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Горњи кожни рефлекс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е изазива превлачењем тупог предмета од доње ивице ребарног лука, према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l.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lb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од споља према унутра - долази до скретања пупка и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l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lb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Средњи кожни рефлекс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се изазива превлачењем тупог предмета од споља ка унутра према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l.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lb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у нивоу пупка - долази до скретања пупка и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l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lb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Доњи кожни рефлекс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е изазива стимулацијом коже 3 прста испод пупка хоризонтално од споља према унутра – померање пупка ка страни на којој се врши дражењ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il_fi" descr="loadBinary"/>
          <p:cNvPicPr/>
          <p:nvPr/>
        </p:nvPicPr>
        <p:blipFill>
          <a:blip r:embed="rId1"/>
          <a:stretch/>
        </p:blipFill>
        <p:spPr>
          <a:xfrm>
            <a:off x="0" y="3276720"/>
            <a:ext cx="2362320" cy="28191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1219320" y="6095880"/>
            <a:ext cx="7924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Физиолошки се ови рефлекси не могу узазвати код гојазних особа и код породиља, а патолошки код запаљенских процеса у трбушној дупљ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362320" y="152280"/>
            <a:ext cx="65530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ffff00"/>
                </a:solidFill>
                <a:uFillTx/>
                <a:latin typeface="Arial"/>
              </a:rPr>
              <a:t>Трбушни</a:t>
            </a: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 рефлекси – рефлексни лук –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nn.intercostales </a:t>
            </a: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са рефлексним центрима у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Th 5 – 12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Има их 4 укупн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209680" y="10666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Епигастри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Горњ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Средњ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Доњ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151920"/>
            <a:ext cx="8001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sr-CS" sz="2400" spc="-1" strike="noStrike" u="sng">
                <a:solidFill>
                  <a:srgbClr val="ffff00"/>
                </a:solidFill>
                <a:uFillTx/>
                <a:latin typeface="Arial"/>
              </a:rPr>
              <a:t>Слузокожни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рефлекси – корнеални и коњуктивал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Корнеални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– рефлексни лук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ферентно влакно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горња грана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n.trigeminus – a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, рефлексни центар у понсу, еферентно влакно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у моторна влакн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n.facialis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– а, а ефектор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m.orbicularis ocu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Корнеални рефлекс се изазива тако што се рожњача додирне парчетом вате (испитаник треба да гледа на супротну страну како би рука испитивача била изван видног поља испитаника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Рефлекс може бити ослабљен или да изостане код особа које носе контактна сочива. Има посебан значај за праћење дубине анестезиј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graphic002008"/>
          <p:cNvPicPr/>
          <p:nvPr/>
        </p:nvPicPr>
        <p:blipFill>
          <a:blip r:embed="rId1"/>
          <a:stretch/>
        </p:blipFill>
        <p:spPr>
          <a:xfrm>
            <a:off x="2743200" y="3124080"/>
            <a:ext cx="472428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523520" y="456840"/>
            <a:ext cx="7620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3. Рефлекси зениц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Испитивање реакције зеница 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(pupillae) 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на светлос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Извођење рефлекса – Испитаник се постави тако да му је једно око у сенци (нпр. заклоњено шаком) а друго око окренуто ка извору светлости. Испитивач треба да заклони другом шаком око које је под утицајем светлости (10- ак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) и онда да нагло склони руку и посматра реакцију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pupille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другог ока. Очекивана реакција је сужавање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pupille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оба ока. Истовремено сужавање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pupille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неосветљеног ока зове се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консензуална реакција (моноокуларна стимулација).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Рефлексни лук – рецептори (неуроепителни елементи ретине) –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n.opticus – tractus opticus – colliculus rostralis laminae quadrigeminae –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Вестфал – Едингерово једро (парасимпатичко једро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n.oculomotorius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–а) –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ganglion ciliare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nn.ciliares breves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– ефектор (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m.sfinkter pupilae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905120" y="533160"/>
            <a:ext cx="7238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Испитивање реакције зеница на акомодацију (способност ока за гледање на близину) и конвергенциј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Извођење рефлекса – Испитивач се постави испред испитаника који гледа у даљину и не директно у извор светла. Испитивач постави прст или врх оловке на 1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испред испитаника и помера горе, доле да провери да га испитаник прати погледом. Након тога врх оловке полако приближава носу испитаника. Очекивана реакција је сужавање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pupill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и окретање очних јабучица према унутра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(конвергенција очних јабучица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Рефлексни лук –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retina – corpus geniculatum laterale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– визуелни кортекс – “акомодационо – конвергенциони” регион у близини окуломоторних једара - Вестфал – Едингеровог  једра – парасимпатичка преганглијска влакн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n.oculomotorius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–а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ganglion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ciliare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– постганглијска парасимпатичка влакна до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m.ciliar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514240" y="2286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Рефлекси на истез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0" lang="sr-Latn-CS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66"/>
                </a:solidFill>
                <a:latin typeface="Arial"/>
              </a:rPr>
              <a:t>Рефлекс </a:t>
            </a:r>
            <a:r>
              <a:rPr b="0" lang="sr-Latn-CS" sz="2200" spc="-1" strike="noStrike">
                <a:solidFill>
                  <a:srgbClr val="ffff66"/>
                </a:solidFill>
                <a:latin typeface="Arial"/>
              </a:rPr>
              <a:t>m.biceps brachii</a:t>
            </a:r>
            <a:r>
              <a:rPr b="0" lang="sr-Latn-CS" sz="20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Рефлексни лук  -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n.musculocutaneous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са рефлексним центрима у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C5 –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il_fi" descr="neuro_biceps_reflex2"/>
          <p:cNvPicPr/>
          <p:nvPr/>
        </p:nvPicPr>
        <p:blipFill>
          <a:blip r:embed="rId1"/>
          <a:stretch/>
        </p:blipFill>
        <p:spPr>
          <a:xfrm>
            <a:off x="228600" y="2438280"/>
            <a:ext cx="4343400" cy="3276720"/>
          </a:xfrm>
          <a:prstGeom prst="rect">
            <a:avLst/>
          </a:prstGeom>
          <a:ln w="0">
            <a:noFill/>
          </a:ln>
        </p:spPr>
      </p:pic>
      <p:pic>
        <p:nvPicPr>
          <p:cNvPr id="120" name="il_fi" descr="reflx-c5"/>
          <p:cNvPicPr/>
          <p:nvPr/>
        </p:nvPicPr>
        <p:blipFill>
          <a:blip r:embed="rId2"/>
          <a:stretch/>
        </p:blipFill>
        <p:spPr>
          <a:xfrm>
            <a:off x="4648320" y="304812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514240" y="609480"/>
            <a:ext cx="6629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Сензорни рецептори обезбеђују унос информација у нервни систем региструјући такве дражи као што су додир, звук, светлост, бол, хладноћа, топлота..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CS" sz="2100" spc="-1" strike="noStrike">
                <a:solidFill>
                  <a:srgbClr val="ffff00"/>
                </a:solidFill>
                <a:latin typeface="Arial"/>
              </a:rPr>
              <a:t>Врсте рецептора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sr-CS" sz="2100" spc="-1" strike="noStrike">
                <a:solidFill>
                  <a:srgbClr val="ffff00"/>
                </a:solidFill>
                <a:latin typeface="Arial"/>
              </a:rPr>
              <a:t>Механорецептори</a:t>
            </a: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– региструју механичке деформације рецептора или ћелија уз рецептор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1" lang="sr-CS" sz="2100" spc="-1" strike="noStrike">
                <a:solidFill>
                  <a:srgbClr val="ffff00"/>
                </a:solidFill>
                <a:latin typeface="Arial"/>
              </a:rPr>
              <a:t>Терморецептори</a:t>
            </a: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– региструју промене у температури (посебни за топлоту, посебни за хладноћу)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sr-CS" sz="2100" spc="-1" strike="noStrike">
                <a:solidFill>
                  <a:srgbClr val="ffff00"/>
                </a:solidFill>
                <a:latin typeface="Arial"/>
              </a:rPr>
              <a:t>Ноциоцептори</a:t>
            </a: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– рецептори за бол, региструју оштећење ткива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4. </a:t>
            </a:r>
            <a:r>
              <a:rPr b="1" lang="sr-CS" sz="2100" spc="-1" strike="noStrike">
                <a:solidFill>
                  <a:srgbClr val="ffff00"/>
                </a:solidFill>
                <a:latin typeface="Arial"/>
              </a:rPr>
              <a:t>Електромагнетски</a:t>
            </a: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– региструју светлост на ретини ока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1" lang="sr-CS" sz="2100" spc="-1" strike="noStrike">
                <a:solidFill>
                  <a:srgbClr val="ffff00"/>
                </a:solidFill>
                <a:latin typeface="Arial"/>
              </a:rPr>
              <a:t>Хеморецептори</a:t>
            </a: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– региструју укус у устима, у носу мирис, у артеријској крви ниво кисеоника..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666520" y="533520"/>
            <a:ext cx="62485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66"/>
                </a:solidFill>
                <a:latin typeface="Arial"/>
              </a:rPr>
              <a:t>2. </a:t>
            </a:r>
            <a:r>
              <a:rPr b="0" lang="sr-CS" sz="2200" spc="-1" strike="noStrike">
                <a:solidFill>
                  <a:srgbClr val="ffff66"/>
                </a:solidFill>
                <a:latin typeface="Arial"/>
              </a:rPr>
              <a:t>Рефлекс </a:t>
            </a:r>
            <a:r>
              <a:rPr b="0" lang="sr-Latn-CS" sz="2200" spc="-1" strike="noStrike">
                <a:solidFill>
                  <a:srgbClr val="ffff66"/>
                </a:solidFill>
                <a:latin typeface="Arial"/>
              </a:rPr>
              <a:t>m.triceps brachi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Рефлексни лук  -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n.radialis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са рефлексним центрима у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il_fi" descr="neuro-triceps-reflex1"/>
          <p:cNvPicPr/>
          <p:nvPr/>
        </p:nvPicPr>
        <p:blipFill>
          <a:blip r:embed="rId1"/>
          <a:stretch/>
        </p:blipFill>
        <p:spPr>
          <a:xfrm>
            <a:off x="2666880" y="198108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362320" y="533160"/>
            <a:ext cx="6325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Arial"/>
              </a:rPr>
              <a:t>3. </a:t>
            </a:r>
            <a:r>
              <a:rPr b="0" lang="sr-CS" sz="2400" spc="-1" strike="noStrike">
                <a:solidFill>
                  <a:srgbClr val="ffff66"/>
                </a:solidFill>
                <a:latin typeface="Arial"/>
              </a:rPr>
              <a:t>Пателарни рефлекс (</a:t>
            </a:r>
            <a:r>
              <a:rPr b="0" lang="sr-Latn-CS" sz="2400" spc="-1" strike="noStrike">
                <a:solidFill>
                  <a:srgbClr val="ffff66"/>
                </a:solidFill>
                <a:latin typeface="Arial"/>
              </a:rPr>
              <a:t>m.quadriceps</a:t>
            </a:r>
            <a:r>
              <a:rPr b="0" lang="sr-CS" sz="2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ефлексни лук  -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.femoralis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са рефлексним центрима у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2 –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il_fi" descr="image002"/>
          <p:cNvPicPr/>
          <p:nvPr/>
        </p:nvPicPr>
        <p:blipFill>
          <a:blip r:embed="rId1"/>
          <a:stretch/>
        </p:blipFill>
        <p:spPr>
          <a:xfrm>
            <a:off x="152280" y="2438280"/>
            <a:ext cx="3619800" cy="3133800"/>
          </a:xfrm>
          <a:prstGeom prst="rect">
            <a:avLst/>
          </a:prstGeom>
          <a:ln w="0">
            <a:noFill/>
          </a:ln>
        </p:spPr>
      </p:pic>
      <p:pic>
        <p:nvPicPr>
          <p:cNvPr id="125" name="il_fi" descr="kneeJerkReflex"/>
          <p:cNvPicPr/>
          <p:nvPr/>
        </p:nvPicPr>
        <p:blipFill>
          <a:blip r:embed="rId2"/>
          <a:stretch/>
        </p:blipFill>
        <p:spPr>
          <a:xfrm>
            <a:off x="3886200" y="2057400"/>
            <a:ext cx="51055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2666880" y="380880"/>
            <a:ext cx="57913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4.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Ахилов рефлекс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Рефлексни лук  -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n.tibialis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са рефлексним центрима у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5,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1 –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il_fi" descr="image009"/>
          <p:cNvPicPr/>
          <p:nvPr/>
        </p:nvPicPr>
        <p:blipFill>
          <a:blip r:embed="rId1"/>
          <a:stretch/>
        </p:blipFill>
        <p:spPr>
          <a:xfrm>
            <a:off x="2590920" y="190512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1150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линички значај испитивања рефлек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6629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Користе се за процену степена фацилитације центара у кичменој мождини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Рефлексни одговори се могу појачати при великим лезијама моторног кортекса (мождани удар, тумори...) у мишићима на супротној страни тела (контралатерална страна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Рефлексни одговори се могу смањити или бити одсутни услед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4525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дисфункције основних елемената рефлексног лука – ипсилатерално, ил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4525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оштећења (прекида) кортикоспиналног пута – контралатерална стран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609120"/>
            <a:ext cx="64292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66"/>
                </a:solidFill>
                <a:latin typeface="Arial"/>
              </a:rPr>
              <a:t>Различита осетљивост рецептор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133360" y="1523880"/>
            <a:ext cx="7010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хваљујући различитој осетљивости рецептори могу да разликују осећаје, тј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аж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ваки од основних типова осећаја које доживљавамо (бол, додир, звук...) називамо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одалитетом осећај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но што нервно влакно преноси је 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импул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али како се свако влакно завршава у специфичној тачки онда ми то доживљавамо као неки од модалитета осећај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76320" y="228240"/>
            <a:ext cx="726768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Претварање сензорне дражи у нервни импул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057040" y="1219320"/>
            <a:ext cx="7086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Сви сензорни рецептори имају једно заједничко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својство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- б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ило који да је тип дражи која делује на рецептор, њен непосредни ефекат се састоји у промени мембранског потенцијала рецептора –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рецепторски потенцијал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Механизам рецепторских потенцијал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1. Механичка деформација рецептора која истеже мембрану и отвара јонске канале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2. Наношење хемијских супстанци на мембрану које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 такође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 отварају јонске канале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3. Промена температуре мембране ремети њену пропустљивост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4. Електромагнетни таласи мењају карактеристике мембране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040" y="304920"/>
            <a:ext cx="70866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Рецепторски потенцијал Пачинијев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ог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телаш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33720" y="91440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ачинијево телашце (механорецептор) има централно нервно влакно које се пружа кроз његову срж, а окружено ј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ишеструким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концентричним слојеви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омпресија споља на било ком месту телашца издужује, угиба или на неки други начин деформише централно влак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ам врх централног влакна је немијелинизован, а влакно постаје мијелинизовано одмах након изласка из телашца и уласка у периферни сензорни нер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2286000" y="4000680"/>
            <a:ext cx="60958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52320" y="456840"/>
            <a:ext cx="38862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66"/>
                </a:solidFill>
                <a:latin typeface="Arial"/>
              </a:rPr>
              <a:t>Адаптација рецептор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362320" y="1218960"/>
            <a:ext cx="6781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ви сензорни рецептори имају специјалну карактеристику да се после извесног времена делимично или потпуно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даптирају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на драж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а који начи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ада се примени континуирана сензорна драж, у почетку рецептори одговарају високом фреквенцијом импулса, затим прогресивно мањом фреквенцијом док на крају и не дају одгов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ензорни рецептори се адаптирају у знатно већој мери од друг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ачинијево телашц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адаптација до гашења унутар неколико стотинки секунд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Рецептори корена длак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унутар једне секунд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аротидни и аортни барорецептор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око 2 дана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66748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Механизам адаптације рецепт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09680" y="99072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Адаптација рецептора је индивидуално својство сваког типа рецепт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Адаптација Пачинијевог телашца се одвија на 2 начи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1. Пачинијево телашце је високоеластична структура тако да када на једну страну телашца нагло делује сила дисторзије, она се у моменту вискозном компонентом телашца преноси на исту страну сржи изазивајући рецепторски потенцијал. За неколико стотинки секунде настаје прерасподела  течности унутар телашца, тако да притисак постаје једнак у целом телашцу; једнак притисак на целом нервном влакну у сржи не изазива даље рецепторски потенциј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ада се сила дисторзије отклони са телашца одвија се обрнути догађај. Тако поремећај централног влакна у сржи телашца обавештава о престанку компресиј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437920" y="1447920"/>
            <a:ext cx="6326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2. Спорији механизам адаптације настаје процесом названим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акомодациј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који се одвија у самом нервном влакн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етпоставља се да долази до </a:t>
            </a:r>
            <a:r>
              <a:rPr b="0" i="1" lang="sr-CS" sz="2400" spc="-1" strike="noStrike">
                <a:solidFill>
                  <a:srgbClr val="ffff66"/>
                </a:solidFill>
                <a:latin typeface="Arial"/>
              </a:rPr>
              <a:t>инактивације</a:t>
            </a:r>
            <a:r>
              <a:rPr b="0" i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CS" sz="2400" spc="-1" strike="noStrike">
                <a:solidFill>
                  <a:srgbClr val="ffff66"/>
                </a:solidFill>
                <a:latin typeface="Arial"/>
              </a:rPr>
              <a:t>канала за натријум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што значи да сам ток струје кроз канале на неки начин узрокује да се они постепено затварај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88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ункција рецептора који се споро адаптирају у откривању трајне јачине дражи – 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ТОНИЧКИ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РЕЦЕПТОРИ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09680" y="1600200"/>
            <a:ext cx="6934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Рецептори који се споро адаптирају трајно преносе импулсе до мозга све док драж постоји (или бар у току неколико минута или сати). Они заправо константно информишу мозак о телесном стању и његовом односу према околин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Нпр. импулси из мишићних вретена и Голџијевог тетивног апарата омогућавају централном нервном систему да у сваком моменту зна стање мишићне контракције, односно оптерећења мишићних тетив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Други типови рецептора који се споро адаптирају су: рецептори макуле вестибуларног апарата, рецептори за бол, хеморецептори каротидних и аортних тела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6:33:53Z</dcterms:created>
  <dc:creator>Kaca</dc:creator>
  <dc:description/>
  <dc:language>en-US</dc:language>
  <cp:lastModifiedBy>User</cp:lastModifiedBy>
  <dcterms:modified xsi:type="dcterms:W3CDTF">2014-10-01T14:47:46Z</dcterms:modified>
  <cp:revision>78</cp:revision>
  <dc:subject/>
  <dc:title>Медицински факултет у Крагујевцу </dc:title>
</cp:coreProperties>
</file>